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02D4-588E-4DB0-95D3-EB039AD7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869-ADB5-4363-8DC5-03294229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2B69-6910-4C56-B66F-0BF274F9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447-ABDD-4885-8803-2C7A6A0A8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5B4E-574C-4D34-B125-CA6D4EC4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8593-CD18-442E-A900-DEBF1AF7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92B3-55CD-4022-9C44-180777BA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6073-01ED-44F9-99D9-46B289F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16D5-6B1A-496F-A762-DDE72AA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FAF-E8CA-4B64-97C9-87D9A6D6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061C-670B-4FD5-90D2-2C07CB44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B17C-2EE7-4333-AC3E-33649DA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rmAutofit/>
          </a:bodyPr>
          <a:p>
            <a:pPr marL="366840" indent="-3668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0636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25440" indent="-24444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17560" indent="-24588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06800" indent="-2448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06800" indent="-2448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06800" indent="-24480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1640" cy="689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cs-CZ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cs-CZ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3280" y="9020160"/>
            <a:ext cx="1602000" cy="68904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  <a:defRPr b="0" lang="cs-CZ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fld id="{A17D9ECD-6D50-4C4F-A047-14169DE43D3D}" type="slidenum">
              <a:rPr b="0" lang="cs-CZ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52640" y="2219400"/>
            <a:ext cx="5805360" cy="7524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4300" spc="-1" strike="noStrike">
                <a:solidFill>
                  <a:srgbClr val="333399"/>
                </a:solidFill>
                <a:latin typeface="Trebuchet MS"/>
              </a:rPr>
              <a:t>Uživatelská příručka GEMIS 4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57000" y="3368520"/>
            <a:ext cx="4800600" cy="71136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rebuchet MS"/>
              </a:rPr>
              <a:t>Aktu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1087560" cy="9936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24280" y="193680"/>
            <a:ext cx="374472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t">
            <a:spAutoFit/>
          </a:bodyPr>
          <a:p>
            <a:pPr algn="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Trebuchet MS"/>
              </a:rPr>
              <a:t>CityPlan spol. s r.o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14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300" spc="-1" strike="noStrike">
                <a:solidFill>
                  <a:srgbClr val="808080"/>
                </a:solidFill>
                <a:latin typeface="Arial"/>
              </a:rPr>
              <a:t>Odborů 4, 120 00 Praha 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89360" y="8620200"/>
            <a:ext cx="2879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9360" y="8696160"/>
            <a:ext cx="285264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t">
            <a:spAutoFit/>
          </a:bodyPr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900" spc="-1" strike="noStrike">
                <a:solidFill>
                  <a:srgbClr val="808080"/>
                </a:solidFill>
                <a:latin typeface="Trebuchet MS"/>
              </a:rPr>
              <a:t>Říjen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900" spc="-1" strike="noStrike">
                <a:solidFill>
                  <a:srgbClr val="808080"/>
                </a:solidFill>
                <a:latin typeface="Trebuchet MS"/>
              </a:rPr>
              <a:t>Číslo projektu: 04-13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68280" y="8229600"/>
            <a:ext cx="3311640" cy="12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280" rIns="98280" tIns="48960" bIns="4896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en-US" sz="2100" spc="-1" strike="noStrike">
                <a:solidFill>
                  <a:srgbClr val="808080"/>
                </a:solidFill>
                <a:latin typeface="Trebuchet MS"/>
              </a:rPr>
              <a:t>Zpracováno pr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900" spc="-1" strike="noStrike">
                <a:solidFill>
                  <a:srgbClr val="808080"/>
                </a:solidFill>
                <a:latin typeface="Trebuchet MS"/>
              </a:rPr>
              <a:t>ČE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900" spc="-1" strike="noStrike">
                <a:solidFill>
                  <a:srgbClr val="808080"/>
                </a:solidFill>
                <a:latin typeface="Trebuchet MS"/>
              </a:rPr>
              <a:t>Vinohradská 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900" spc="-1" strike="noStrike">
                <a:solidFill>
                  <a:srgbClr val="808080"/>
                </a:solidFill>
                <a:latin typeface="Trebuchet MS"/>
              </a:rPr>
              <a:t>120 00 Praha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0840" y="272880"/>
            <a:ext cx="868320" cy="8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2T07:32:49Z</dcterms:created>
  <dc:creator>Eva Skálová</dc:creator>
  <dc:description/>
  <dc:language>en-US</dc:language>
  <cp:lastModifiedBy>Eva Skálová</cp:lastModifiedBy>
  <dcterms:modified xsi:type="dcterms:W3CDTF">2004-10-20T08:32:29Z</dcterms:modified>
  <cp:revision>10</cp:revision>
  <dc:subject/>
  <dc:title>Snímek 1</dc:title>
</cp:coreProperties>
</file>